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575-C72F-474D-ACFA-02802A30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709-9E62-4FE3-A44A-FD3CFBF4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68022-3F92-4983-B16C-BB253E2D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0C44A-E337-4353-BB96-5937798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D2288-2427-4839-BD3D-F1167997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42D13-9C4E-434E-9D14-6718B07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426E6-F951-4678-A94E-38AD1A9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C0E06-E751-4478-A103-9ED4E56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50730-3A02-42B9-B416-E62A537E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D9CA4-8080-450F-89AF-11E531D6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0E2FA-A4D7-4568-BD88-C4247D20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67282-7BDD-4A0C-A841-B361A0AB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21D-7CDA-47A0-8E6F-C19EFF7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CC2D9-452F-46AB-9035-8E4A5D9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91942-81DE-419D-99EF-2ACDB56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B38F8-B919-457F-B7F4-ED9E42B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2AE14-AF0A-405A-B4A2-B25B08C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3D422-783B-4240-B2AE-82B3C6B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A7019-1758-4954-B220-BF3FE595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6CD8A-EE9F-44A3-BC9A-FE340AE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45BCC-6B8F-4A70-98AE-A27FF21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725F0-9231-4D1D-9F98-2769241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D2F5C-EBC7-426D-B5CE-ED4F8520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8E9-331A-464F-B23A-61B7E879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775F1-3F70-4639-9622-953240BA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EF647-FF5A-45F4-864A-8EE05BEA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591F1-7719-4448-8E75-3C8E2B39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E8F5D-302C-4BCF-9B5E-8458638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91868-73C6-4C85-8F61-AA63D1A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49AF-56B4-4836-BE33-348AB3E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5604C-79B1-4AC8-9109-C11E6C2C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F412A-EF30-41EA-9CE8-37AC06F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65BE-B2B9-4610-9A6B-1F7574B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9410B-9C06-454B-99C6-263FCF6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B461-E0F3-4A2B-9845-9F723607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602F-A931-461F-B346-7D4ACAEF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A0D0-3FCF-4D67-9582-4028E4C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373C6-E07E-4C10-A395-42994DFC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4ED36-822A-44DF-AD8A-29EAED54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8F0D0-4E4D-4A72-9293-F17BD85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1A9E2-6336-4E82-8FE0-92B2186E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339A3-4150-4283-911B-96C7528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BF2EC-D3D7-48CE-BA74-92F26AD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FAB0F-1389-4091-A7C4-149C42A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07807-E283-4145-97A2-316A1B8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A3B0-FDCD-4F5A-B80F-B9E7766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B8643-B1B6-4E05-AFF6-254C6BF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B4B2-BA79-47CC-90A8-41CA5CE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E41B-E7CF-4C5B-9BD4-4BF95BB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E64EE-39BD-4412-8B60-14BC43E6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1DAC8-2436-4537-86A8-E5E69844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BDB5C-B229-482B-A9CF-10C6287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52CD9-C16A-4E87-BD4E-19C0F08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C0738-E0B3-4276-B821-91852588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B44AC-7759-48F0-94BC-FBB0E0F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F2285-7BA1-458D-9A98-A03A771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98BE-EBE2-4A2A-9B97-F872CC0D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F26C0-B3DF-4700-9981-D40143AB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E8129-EB78-4350-836D-FC823F45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3F24D-265E-476A-BF28-76465DD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D49FD-9285-4A0B-9374-D0AB02D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4DE95-B8A7-4482-9DCB-3BC4BDEF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56B65-E9EE-4D7C-8897-D3585AC2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7A7F3-C5C9-4A43-913C-A57D7284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F90-88D6-4293-A8C2-8996A088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0900-708A-498C-9298-8C577AF2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C827-A2E2-4369-A5B8-B952EE8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7CF9-7066-4298-8E73-95FFC26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BA3-01A3-4027-9987-0076B44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7009-7A2E-4378-8A49-2F5FBD1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3475-AD0B-4CF5-89FA-23172E5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055F-5338-4E8B-BEB3-4D3E243B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FC3-DDB9-4C6D-AC23-8E81E295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AC7-59D8-478A-91DE-B7ADA94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90CE-103F-4D88-A4C5-A12DDEC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1132-C6C4-4A3C-BD24-615185E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FD0B-0852-44D5-9BC3-0FD0E2F0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6DF5-154E-4F94-9F0C-4253358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BCC8-7498-4D58-BEBB-6D2DA498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9BE-17F3-44B2-8F77-1DC20C2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31AF-4057-4AC9-9F4A-39653690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D282-1592-45DC-AB0E-1ED13DB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CC2F-B669-4A96-A8AE-C2AB46E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D4F6-5631-48E5-964B-A425E41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5E66-669B-46AA-A7EE-935C6BF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CDAA-878D-40BC-858B-94B9E38D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0ABE-14EA-49E7-A195-F55965FB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CA44-9B19-4FD3-A9AA-984F723A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F448-6427-4DC0-A1A2-1B545CA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E56A-7566-4986-A8F9-00C724D3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745-CF06-48BD-9ACC-B38DFB1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418A-2121-4431-90C3-A4443688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1816-AFB3-409B-993D-F2AEEAF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FA44-387F-4BDA-A42A-4F64DC1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6303-3468-408C-89B4-42C8A54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244B-D81F-4D5D-99A2-E6C9347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69BB-551C-4DC5-B5DA-68FB944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5FCF-D80D-40D5-922C-76C0918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FD03-513D-49BE-B37D-41236713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28A0-9C83-41AC-A6D6-81270EA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6E70-9640-4DA5-8F1A-7687E9CA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0F5-D815-4C44-8F6D-1F24E24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6088-2AD1-40EF-8F6C-931D313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4A62-7FC5-4B17-9DBD-3BEAEFB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7370-9718-4A5E-A0BF-CF05E378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6B4E-387F-42EA-BF48-80AB856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5B9E-2C1C-4715-8F6B-29DF282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1421-7264-4DE5-9703-D964D33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EF0C-1D35-4C18-B3B1-8817D60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B73C-B4AA-4254-9D4F-B2990E6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4BAE-8B21-42CF-B1ED-B0147F74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EC03-2E04-4B12-8493-A0D8695D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4F8-45A0-4238-81A9-64D1174F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52E4-BCA8-4CD2-AB1B-D138FDDE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E5C5-5D74-4081-9DDD-B4CF1B2A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FCB2-CE78-4DBA-AD72-09F9E46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3F90-09DD-4640-8BE1-375FE53F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902F-9AD4-4BAB-B65A-29A8804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8429-1480-463A-9C6A-7236C4C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664E-E57E-4159-933D-9B6E935A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2DC5-75B3-4FAF-B25C-D893B9A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B20D-0344-43C8-965D-50DBD4C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D0B9-BEC3-4896-ABA4-78C8052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ED3-62AD-44BF-ACF5-EC73A12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CC41-E432-4116-88C1-2F214F2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7F8E-7E1A-4B9B-A629-A6D99DA5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6D1FA-5B44-4FDD-85F1-692EA5CD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4609D-880D-42FB-AF7D-B667D7B1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B30E-D341-4A38-AF92-B3B23B3A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9D145-6307-4387-811A-7372152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26198-59E4-47B9-9957-0842B04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FFA55-A6B5-4D7A-8B71-5F5BA15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39DA-2F5F-4D33-917D-93AED867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F3CC-294A-48D0-AAEC-A8F594B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B6C-6C1F-409C-8439-6364096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8F98-CEE8-421A-B00B-7496DAA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4134-5835-42DB-B51F-9C82840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D738-2593-4135-9222-BF50E380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7A1BE-EFCB-4E7C-85A9-E69A3DCA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DA66-DEC8-452E-B1AE-ECC0A0DB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2FD67-E28A-4A61-A245-917E9B2B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4C5E-D5A8-409B-B7A1-4E8A897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0C9C5-A63C-4B51-96B5-FD7DFC1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404A-B53B-43AB-AA79-D82F975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ECF1-2114-4E31-B989-B94412E5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846-FC8D-4BA2-98A5-5EB49D3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26D6-BA07-48CB-818F-669A2EA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18B7-A1D2-4B59-AE62-C2AAC65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18D8-0E72-413C-9DD5-B1C82ED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5B6D-F91E-4DF3-8A81-6596EF8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8E07-E4B6-4857-886D-0119F658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E762-63E2-4C7E-912A-29A89C42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81678-4C05-46AC-B3FE-9F8E5EE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8A0A7-E337-45F6-B039-01298606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691C-FBFB-446F-957A-2ACCFA71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FAAB-2C41-4939-96CE-73C78ED4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FE1B-59E2-4983-A9E4-D448AD411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B36-5C72-4ABF-968D-FC93CDCE9DD9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BE6-2412-4468-8BAE-7BCFC16B4EAD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A90-D96A-41CE-BEEF-F14350DF05BA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72C-7A30-4778-9E1E-873650212BBA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E35-EC40-4C4D-A95F-980BB5AFF0DE}" type="slidenum">
              <a:rPr b="0" lang="fr-F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B05-52FD-438F-B0D0-B2E690C5ABB0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68A-6A67-4CA8-8C40-795B0D634751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773-3550-4E33-BF48-70EFFCC7B787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5754-34A5-43B1-A687-8378AB5F27FB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D20-6CE2-4E1B-A907-5AD9792BA133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DEF-00B1-4B5A-86F6-A85C7306D8FE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a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9670-BAEF-4095-B79D-2F437318656B}" type="slidenum">
              <a:rPr b="0" lang="fr-F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848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Virus et Infections  Associées aux Soi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 C. Z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boratoire de Virologie IHU Méditerr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OHH CLIN Ti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eptembre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urces de contamination pos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932040" y="1981080"/>
            <a:ext cx="727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chéma des différentes sources d’infections nosocomiales vira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Espace réservé du contenu 3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468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050"/>
          <p:cNvSpPr/>
          <p:nvPr/>
        </p:nvSpPr>
        <p:spPr>
          <a:xfrm>
            <a:off x="1523880" y="990720"/>
            <a:ext cx="62485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ectre path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gestif (GEA, hépat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é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yens de prévention (vaccins) et de traitement (antivira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istance des virus aux agents chim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urvie des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3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HA et Vir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rucide sur les virus enveloppés (herpes simplex virus, HIV, virus de la grippe, virus respiratoire syncytial, virus de l’hépatite B) et à un degré moindre sur les virus 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constante des produits et augmentation du nombre de produits virucides sur la majorité des virus pouvant être véhiculés par les 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rme virucidie : NFEN 14476 (adénovirus, polio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Image 1" descr=""/>
          <p:cNvPicPr/>
          <p:nvPr/>
        </p:nvPicPr>
        <p:blipFill>
          <a:blip r:embed="rId1"/>
          <a:stretch/>
        </p:blipFill>
        <p:spPr>
          <a:xfrm>
            <a:off x="-4645080" y="-1395360"/>
            <a:ext cx="1600200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Rôle du labor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101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onnaissance des patients porteurs de virus à l’hô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er les patients atteints: tests rapides (P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sures d’iso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lification des dons d’org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firmation du caractère «  IAS » d’une épidé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de l’identité des souches isol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se en charge virologique des patients infec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rge virale, détection des ré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1511280"/>
            <a:ext cx="9144000" cy="3416400"/>
          </a:xfrm>
          <a:prstGeom prst="rect">
            <a:avLst/>
          </a:prstGeom>
          <a:solidFill>
            <a:srgbClr val="5aa2ae"/>
          </a:solidFill>
          <a:ln w="12600">
            <a:solidFill>
              <a:srgbClr val="7268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1494000" y="2025720"/>
            <a:ext cx="615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2577960" y="3463920"/>
          <a:ext cx="102096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463920"/>
                    <a:ext cx="10209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10"/>
          <p:cNvSpPr/>
          <p:nvPr/>
        </p:nvSpPr>
        <p:spPr>
          <a:xfrm>
            <a:off x="4656240" y="2214720"/>
            <a:ext cx="4392360" cy="554400"/>
          </a:xfrm>
          <a:prstGeom prst="rect">
            <a:avLst/>
          </a:prstGeom>
          <a:solidFill>
            <a:srgbClr val="5aa2ae"/>
          </a:solidFill>
          <a:ln w="19080">
            <a:solidFill>
              <a:srgbClr val="504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040"/>
                </a:solidFill>
                <a:latin typeface="Comic Sans MS"/>
              </a:rPr>
              <a:t>Détection du génome ADN ou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040"/>
                </a:solidFill>
                <a:latin typeface="Comic Sans MS"/>
              </a:rPr>
              <a:t>Biologie molécu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2600" y="1844640"/>
            <a:ext cx="2322720" cy="505440"/>
          </a:xfrm>
          <a:prstGeom prst="rect">
            <a:avLst/>
          </a:prstGeom>
          <a:solidFill>
            <a:srgbClr val="5aa2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 u="sng">
                <a:solidFill>
                  <a:srgbClr val="404040"/>
                </a:solidFill>
                <a:uFillTx/>
                <a:latin typeface="Calibri Light"/>
              </a:rPr>
              <a:t>DIR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-17640" y="4932360"/>
            <a:ext cx="9161640" cy="10616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 u="sng">
                <a:solidFill>
                  <a:srgbClr val="1b1e3e"/>
                </a:solidFill>
                <a:uFillTx/>
                <a:latin typeface="Calibri Light"/>
              </a:rPr>
              <a:t>INDIR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b1e3e"/>
                </a:solidFill>
                <a:latin typeface="Calibri Light"/>
              </a:rPr>
              <a:t> </a:t>
            </a:r>
            <a:r>
              <a:rPr b="0" lang="fr-FR" sz="2400" spc="-1" strike="noStrike">
                <a:solidFill>
                  <a:srgbClr val="1b1e3e"/>
                </a:solidFill>
                <a:latin typeface="Calibri Light"/>
              </a:rPr>
              <a:t>Détection des anticorps (Ac) = SER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6"/>
          <p:cNvSpPr/>
          <p:nvPr/>
        </p:nvSpPr>
        <p:spPr>
          <a:xfrm flipH="1" flipV="1">
            <a:off x="1709280" y="3935160"/>
            <a:ext cx="838440" cy="46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7"/>
          <p:cNvSpPr/>
          <p:nvPr/>
        </p:nvSpPr>
        <p:spPr>
          <a:xfrm flipV="1">
            <a:off x="3422520" y="3244320"/>
            <a:ext cx="15840" cy="3970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"/>
          <p:cNvSpPr/>
          <p:nvPr/>
        </p:nvSpPr>
        <p:spPr>
          <a:xfrm flipV="1">
            <a:off x="3060720" y="3987720"/>
            <a:ext cx="1455840" cy="6480"/>
          </a:xfrm>
          <a:prstGeom prst="line">
            <a:avLst/>
          </a:prstGeom>
          <a:ln w="1908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4656240" y="2744640"/>
            <a:ext cx="4391640" cy="2152440"/>
            <a:chOff x="4656240" y="2744640"/>
            <a:chExt cx="4391640" cy="2152440"/>
          </a:xfrm>
        </p:grpSpPr>
        <p:sp>
          <p:nvSpPr>
            <p:cNvPr id="571" name="Line 25"/>
            <p:cNvSpPr/>
            <p:nvPr/>
          </p:nvSpPr>
          <p:spPr>
            <a:xfrm>
              <a:off x="4656240" y="2744640"/>
              <a:ext cx="0" cy="215244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>
              <a:off x="4656240" y="4897080"/>
              <a:ext cx="4391640" cy="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>
              <a:off x="9047880" y="2744640"/>
              <a:ext cx="0" cy="2152440"/>
            </a:xfrm>
            <a:prstGeom prst="line">
              <a:avLst/>
            </a:prstGeom>
            <a:ln w="19080">
              <a:solidFill>
                <a:srgbClr val="504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roupe 3" descr=""/>
          <p:cNvPicPr/>
          <p:nvPr/>
        </p:nvPicPr>
        <p:blipFill>
          <a:blip r:embed="rId3"/>
          <a:stretch/>
        </p:blipFill>
        <p:spPr>
          <a:xfrm>
            <a:off x="85680" y="2835360"/>
            <a:ext cx="1590840" cy="1815840"/>
          </a:xfrm>
          <a:prstGeom prst="rect">
            <a:avLst/>
          </a:prstGeom>
          <a:ln w="0">
            <a:noFill/>
          </a:ln>
        </p:spPr>
      </p:pic>
      <p:pic>
        <p:nvPicPr>
          <p:cNvPr id="575" name="Groupe 8" descr=""/>
          <p:cNvPicPr/>
          <p:nvPr/>
        </p:nvPicPr>
        <p:blipFill>
          <a:blip r:embed="rId4"/>
          <a:stretch/>
        </p:blipFill>
        <p:spPr>
          <a:xfrm>
            <a:off x="2755800" y="1609560"/>
            <a:ext cx="1487520" cy="1640160"/>
          </a:xfrm>
          <a:prstGeom prst="rect">
            <a:avLst/>
          </a:prstGeom>
          <a:ln w="0">
            <a:noFill/>
          </a:ln>
        </p:spPr>
      </p:pic>
      <p:pic>
        <p:nvPicPr>
          <p:cNvPr id="576" name="Image 6" descr=""/>
          <p:cNvPicPr/>
          <p:nvPr/>
        </p:nvPicPr>
        <p:blipFill>
          <a:blip r:embed="rId5"/>
          <a:srcRect l="51073" t="24248" r="22006" b="46352"/>
          <a:stretch/>
        </p:blipFill>
        <p:spPr>
          <a:xfrm>
            <a:off x="6696000" y="3436920"/>
            <a:ext cx="2298600" cy="1413000"/>
          </a:xfrm>
          <a:prstGeom prst="rect">
            <a:avLst/>
          </a:prstGeom>
          <a:ln w="0">
            <a:noFill/>
          </a:ln>
        </p:spPr>
      </p:pic>
      <p:pic>
        <p:nvPicPr>
          <p:cNvPr id="577" name="Image 7" descr=""/>
          <p:cNvPicPr/>
          <p:nvPr/>
        </p:nvPicPr>
        <p:blipFill>
          <a:blip r:embed="rId6"/>
          <a:srcRect l="27657" t="26922" r="51906" b="34299"/>
          <a:stretch/>
        </p:blipFill>
        <p:spPr>
          <a:xfrm>
            <a:off x="4767120" y="2887560"/>
            <a:ext cx="1838520" cy="1962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050"/>
          <p:cNvSpPr/>
          <p:nvPr/>
        </p:nvSpPr>
        <p:spPr>
          <a:xfrm>
            <a:off x="0" y="857160"/>
            <a:ext cx="66088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417b85"/>
                </a:solidFill>
                <a:latin typeface="Calibri Light"/>
              </a:rPr>
              <a:t>Diagnostic d’un vir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onnecteur droit 44"/>
          <p:cNvSpPr/>
          <p:nvPr/>
        </p:nvSpPr>
        <p:spPr>
          <a:xfrm>
            <a:off x="0" y="1393920"/>
            <a:ext cx="6808680" cy="0"/>
          </a:xfrm>
          <a:prstGeom prst="line">
            <a:avLst/>
          </a:prstGeom>
          <a:ln w="63360">
            <a:solidFill>
              <a:srgbClr val="417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71600" y="534960"/>
            <a:ext cx="81993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évention des IAS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oyens de prévention non spécif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écautions standard (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hygiène des mains 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Moyens de prévention spécifique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olemen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olement se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ication aux malades, soignants, fam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ification dans le dos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articularités des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rasites intra-cellulaires 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tite taille: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ulture uniquement sur cell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agnostic difficile: biologie molécul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cc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épatite B (loi du 18/01/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i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AV, VZV, 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rs-Co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mioprophylax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rétroviraux dans les A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herpétiques chez l’immunodépi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tigrippaux en cas d’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munoglobu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 anti HBS chez le non vacc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 anti VZ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incipales infections nosocomiales vi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984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astro-enté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+++ avant 3 ans, collectiv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otaV, caliciV, astroV, aden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mission féco-orale par contact indirect (manuportage++, objets ou surfaces contamin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iroses respirat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pédiatrie et en géria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RS, InfluenzaV, ParainfluenzaV, adénoV, Sars-CoV-2, RhinoV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mission aérienne et manupor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Hépatites vi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BV et HCV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ition au sang ou autre fluide bi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lytransfusés, dialysés, transplantés, hémophiles, soig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volution vers cirrhose et KC fo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fections par les rétr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nfections cutanéomuque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ricelle, herpes, rougeole, enteroV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ératoconjonctivites (ade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te hétérogénéité des IN vi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isque viral très sous-esti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Âges extrêmes de la vie /Répercussions sur le personnel soi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écessité de développer des techniques de diagnostic rapide pour identifier les por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ndre en compte les virus dans les programmes de pré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cautions standard+++, vaccinations et précautions complémentaires d’hygiène si bes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482760" y="290520"/>
            <a:ext cx="81784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38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roblé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623880" y="1052640"/>
            <a:ext cx="7772400" cy="2652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638280" y="3672000"/>
            <a:ext cx="7772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Particularités des IAS vi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val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%? Sous-estimée (avant Sars-CoV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 des enquêtes nationales de prévale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 803 micro-organismes/31 virus : 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ariabilité de période d’incub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4 heures à plusieurs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AS révélées après l’hospit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Image 1" descr=""/>
          <p:cNvPicPr/>
          <p:nvPr/>
        </p:nvPicPr>
        <p:blipFill>
          <a:blip r:embed="rId1"/>
          <a:srcRect l="7647" t="0" r="-7645" b="0"/>
          <a:stretch/>
        </p:blipFill>
        <p:spPr>
          <a:xfrm>
            <a:off x="-3997440" y="-1395360"/>
            <a:ext cx="1600200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900000" y="955800"/>
            <a:ext cx="6172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pulations 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Âges extrê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munodéprimés, polytransfusés, hémodialy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g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agios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 de colonisation vi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ecteurs de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vis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personnel soi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activation d’une infection chez l’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ervoir: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eint d’une infection aigue et excrétant du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rteur d’une infection inap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eint d’une infection chronique avec ou sans signes cliniques (hépatite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Voies de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1274760" y="1981080"/>
            <a:ext cx="659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7:55Z</dcterms:created>
  <dc:creator>dr02225</dc:creator>
  <dc:description/>
  <dc:language>en-US</dc:language>
  <cp:lastModifiedBy>monna.daoudi</cp:lastModifiedBy>
  <dcterms:modified xsi:type="dcterms:W3CDTF">2024-09-18T13:17:25Z</dcterms:modified>
  <cp:revision>117</cp:revision>
  <dc:subject/>
  <dc:title>Virus et infections nosocomiales</dc:title>
</cp:coreProperties>
</file>