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B2E3-E2F6-4B1A-8752-40A924C0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9DAE-D2D7-4382-AAE4-B3385EBA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6150-A6D0-4586-8807-8ED0FA47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EDD0-4F0D-4FF8-8D08-C41897CE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6544-2C14-41F7-9E54-C3217B28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902D-4E4E-403D-A022-DFC28654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8194-5C13-4414-95D4-1E509A65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52FA-71F9-4CBE-9EC3-9D898559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84C-5496-4429-B4B3-4EC49020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A0DC-4A5A-4963-8353-B7696358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ACD-C9F1-401D-8434-9F4CCBE0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F16A-E15F-4962-A53F-FA22A113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F2E7-EB8C-4676-99AB-B217D0A40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ynebacterium neomassiliense CSURP388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506600" y="1600200"/>
            <a:ext cx="6130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04T15:40:48Z</dcterms:created>
  <dc:creator>MaliSAM</dc:creator>
  <dc:description/>
  <dc:language>en-US</dc:language>
  <cp:lastModifiedBy>MaliSAM</cp:lastModifiedBy>
  <dcterms:modified xsi:type="dcterms:W3CDTF">2020-02-04T15:42:11Z</dcterms:modified>
  <cp:revision>1</cp:revision>
  <dc:subject/>
  <dc:title>Corynebacterium neomassiliense CSURP3888</dc:title>
</cp:coreProperties>
</file>