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1E3-FF0B-40EB-ADDC-A2C7D80E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BF9-83FB-441D-9209-72AAA5AF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8DB-EF8C-48D2-B72A-3E4BCB9D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ACA-C0F8-4709-9212-D3C784E6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24F-BDFB-4FF5-AC24-F8460DB8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C1E-BAF9-4042-9522-04323AFE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5CC-F123-4A5C-89FC-5803C5A9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EB4-CB55-4CB6-8E63-D96041B7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528-902D-49D5-AA7A-50C172A9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824-9432-4F6D-A92E-BDA8015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5D5-447E-4751-BC5F-8A1B0F7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172-AEA5-40E8-A05D-9449C4B5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13FF-FF6D-45D1-B6FA-F0B69C75D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872120" cy="4613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403280" y="5661000"/>
            <a:ext cx="69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ference mass spectrum 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colabacillus massilien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13:50:20Z</dcterms:created>
  <dc:creator>sofiane</dc:creator>
  <dc:description/>
  <dc:language>en-US</dc:language>
  <cp:lastModifiedBy>sofiane</cp:lastModifiedBy>
  <dcterms:modified xsi:type="dcterms:W3CDTF">2016-03-10T13:53:44Z</dcterms:modified>
  <cp:revision>1</cp:revision>
  <dc:subject/>
  <dc:title>Diapositive 1</dc:title>
</cp:coreProperties>
</file>